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E8A1-9D1B-414C-9C8B-5390FF2D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4346-9DC1-4A89-B926-ABCFA151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734A-67C7-4B0E-84D1-A6652898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D25A-46C6-42DB-B7BA-408893CE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BE3-CCDB-4C69-9560-2156B69C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B059-695D-4B34-BDD9-99DD35D2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6FA4-A59E-4A21-9CA2-DADCCDB9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1EA8-8877-4A51-806E-1DDF30FF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88E-6777-48AA-8B4F-D3151046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0FE1-E49F-4851-94A0-DEBA0D49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77EF-E3CF-4AF0-8FBC-01767776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CA52-63C3-4C63-8CB2-503A5E7C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0DF9-E2A4-4DE8-8FED-3F7C31ECD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wanda.williams\My Documents\My Pictures\Microsoft Clip Organizer\j03237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 rot="16200000">
            <a:off x="3969360" y="2654640"/>
            <a:ext cx="4729320" cy="36766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Ebene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Scroo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Cruel in life cruel in dea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wanda.williams\Local Settings\Temporary Internet Files\Content.IE5\LX2YN4OC\MCBD07752_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 rot="16200000">
            <a:off x="5750640" y="3316680"/>
            <a:ext cx="3662280" cy="26668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lies Ebenezer Scroo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heart got the last La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I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25:11Z</dcterms:created>
  <dc:creator>wanda.williams</dc:creator>
  <dc:description/>
  <dc:language>en-US</dc:language>
  <cp:lastModifiedBy>Holly Winter</cp:lastModifiedBy>
  <dcterms:modified xsi:type="dcterms:W3CDTF">2011-12-01T22:22:35Z</dcterms:modified>
  <cp:revision>7</cp:revision>
  <dc:subject/>
  <dc:title>Slide 1</dc:title>
</cp:coreProperties>
</file>